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FD2F-EEF0-48BA-982C-6DB5CEFFE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DCDC-3999-405D-860D-424359B45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3A7F-2391-417A-A700-D367823E4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82B0-173E-4479-93B8-1384C4CFE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7A9F8-2C72-4D88-8251-F4495D635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A1F5F-8C37-4AFD-9A2F-94FC0ACF4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6B6D1-02EB-4799-8E58-D097F9143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B19E0-1DCF-41EC-BBBB-9F19EFE05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C5CCF-C6C1-4B98-BC68-1AA3A7817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88D9E-9D89-4B7A-9C36-65DF7B449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A98A6-1C3B-4D58-8D99-9E13036C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4D93-43CB-4C43-90C4-007B708DB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63C14-1EC7-4200-A7F8-C12A37A1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1F2D0-2D5E-4797-B8AB-597BE3ED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08465-E8B5-4C99-9E07-72CD19D96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6CCC2-6AB4-4852-9A78-B2C5632D1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24487-5794-4EBC-82B4-5CF2428AB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6CD95-2873-4BB3-8A8E-3224727ED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5412B-9571-4E19-88CD-78868A38E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3B1ED-00C9-4903-A699-862CF6239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CB949-08DC-4F76-A743-5D496E804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9D554-1B84-471E-A219-5A3972F19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4AEE-D57E-4E95-9906-FFEFDB431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729E6-C00A-4103-95F1-8C8F9010C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3E741-8616-4CAA-91B4-AD144C43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A0646-3375-4019-B306-DA7ADABC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AE221-8208-4B5A-8FAA-5A57B481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31059-8F70-4116-9957-335648DAA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96294-CAA9-4D8E-B4FA-BFE079F1D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0795F-8030-48D6-B498-34B1AD157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A2CD1-7D83-4501-A5A9-A420E0362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7A1E4-78E2-4B3D-9EB1-62FB9303A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3AAB5-0BB8-4AAC-BC75-8B8BE3741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CB57-A234-4E93-B140-21C06FFC7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E16F2-7E62-45B2-9C12-8DC49DB48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30E59-019F-49C3-AB13-94C06722D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7694E-97E7-4E8E-B6D3-4AB7D4DAC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0FCEB-1D31-402B-AB30-0CEA797C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F74E8-D1F2-4322-B7AF-06599F60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E5398-F2F8-4925-8EDB-DE1D313A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66EEC-19F1-419B-A833-8FC0B6507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6EEFD-C177-4111-AEF2-A60F54BE7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AF2DC-ACD9-4A97-AF1F-C77483933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FBE6E-84DA-421C-8946-645C46366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FF4E-D789-40E6-B4F0-3E44538D9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FBA0F-A009-4F19-AF0D-BEE208CF5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2CBD2-9E21-4FBF-802E-25642D7FF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59565-C010-452F-8C11-483A5CDFB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17E71-B107-4CC6-8EF4-1C18E6562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581D6-4F83-41C2-940A-A0F7C3614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A7E75-06C0-4D5D-BAA0-EEB5C38A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085B8-A799-4E3A-A3A3-73C17709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5E18A-7679-4615-BF63-583C932A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A6DFA-7170-4EA8-B19A-660BB24D3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22731-AB37-47F3-B2A1-E55E75BAD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72F4-8433-4BAA-BEBC-D28C6AB69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C875E-EED2-4498-B2D1-B9645EF3E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DDDE1-1496-4006-A10C-2C9D74DEB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17256-5096-4553-9429-9B6AC3F6A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208E1-162A-4746-A109-D4286E595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AEB75-BD33-4F21-B4CF-01F5A67CB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C4B8D-2D39-4050-82D9-FDB4F53D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72C31-D7D1-4296-8322-3D4878127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69FBCF-FB3A-4998-900F-E9474E4F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6992F-CF89-4AE6-8FD3-E6613D7D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2D77B-BE60-4BC9-A98E-EA4C9679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5840-0821-45A3-850C-81F44072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C6D83-57F0-4B77-8980-7C9711219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73150-1F6E-4AED-A8BD-15EC0063F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FACD5-798A-4B79-897E-F5476ACCC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45C53-9B7A-43D8-B3DF-FB8FEBBE7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DB08C-61F0-439D-B650-0ADEEF06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50B50-F76D-4A78-806B-BFBE3DA47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967E1D-4415-48DD-82C7-EED8770F8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9769A-21F0-40F7-AD4E-9BCBF3B5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D38E9-A761-404D-AA76-AAE66971A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046E7-2CEE-4946-8A66-AA8BAA78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D45D-5D7A-49FF-B7C7-A6E5D1B2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2180DC-746F-40A4-B8C6-2D817CEE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3833FD-632E-4B81-8FF3-085531C9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328DB-66EB-4D42-A13D-5DF1790DD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9BB830-E714-4B76-BDC4-AAE3E24FE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0968D-34D2-4323-8750-9B88748AC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39C8B0-0415-4531-8905-0E1DF4F97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BF9E59-6B9A-4162-93E7-D50E5707B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8E0DB-25EE-484E-AAE9-9065B07A3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5DA5D2-9C90-41F8-B0D4-F96A14337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F32628-824A-4E7F-974C-1FCA1C85F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D709-AD27-43D8-B174-FB27835B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0E02A7-3BBA-4032-8FD8-C8E704A6E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91078C-DE55-415F-B89F-3CE47BD9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8A0E35-8C0A-48D0-B58A-9C31EF10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4F5D11-CDE5-4AB7-ABA2-8567D930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72E500-68C8-4AF6-97E6-652B7E953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3ACB10-B2AA-4E2B-9AB3-3964FC326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A8B6C3-1F7C-4CF1-9112-E3E42A4AF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c90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e4005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66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48B94-3A25-464E-927C-46C35712ECE9}" type="slidenum">
              <a:rPr b="0" lang="en-US" sz="1400" spc="-1" strike="noStrike">
                <a:solidFill>
                  <a:srgbClr val="666666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e400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e400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c90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e4005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66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661DF-B3D5-429D-824B-F97EA2015BC4}" type="slidenum">
              <a:rPr b="0" lang="en-US" sz="1400" spc="-1" strike="noStrike">
                <a:solidFill>
                  <a:srgbClr val="666666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2d2d2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c90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e4005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2d2d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2d2d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2d2d2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094A5-05DA-4423-B437-8478EE913D9C}" type="slidenum">
              <a:rPr b="0" lang="en-US" sz="1400" spc="-1" strike="noStrike">
                <a:solidFill>
                  <a:srgbClr val="d2d2d2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e400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e400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c90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e4005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66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2B643-BE26-4978-94BB-6510A1A54378}" type="slidenum">
              <a:rPr b="0" lang="en-US" sz="1400" spc="-1" strike="noStrike">
                <a:solidFill>
                  <a:srgbClr val="666666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e400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c90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e4005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66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FC70C-CA4B-4DE0-8CC2-8A3C83C4E09B}" type="slidenum">
              <a:rPr b="0" lang="en-US" sz="1400" spc="-1" strike="noStrike">
                <a:solidFill>
                  <a:srgbClr val="666666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e400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e400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c90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e4005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66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510B-5630-4F6A-99AD-599A94721E8A}" type="slidenum">
              <a:rPr b="0" lang="en-US" sz="1400" spc="-1" strike="noStrike">
                <a:solidFill>
                  <a:srgbClr val="666666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e400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2d2d2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c90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e4005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2d2d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2d2d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2d2d2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54F56-A673-479F-AB2F-EBD4E747484B}" type="slidenum">
              <a:rPr b="0" lang="en-US" sz="1400" spc="-1" strike="noStrike">
                <a:solidFill>
                  <a:srgbClr val="d2d2d2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e400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e400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c90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e4005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66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E0DC3-8962-4DE1-8F18-172421576102}" type="slidenum">
              <a:rPr b="0" lang="en-US" sz="1400" spc="-1" strike="noStrike">
                <a:solidFill>
                  <a:srgbClr val="666666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28400" y="1785960"/>
            <a:ext cx="8305560" cy="14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Hypocalcemia</a:t>
            </a:r>
            <a:endParaRPr b="0" lang="en-US" sz="4000" spc="-1" strike="noStrike">
              <a:solidFill>
                <a:srgbClr val="666666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Content Placeholder 3" descr="chovstek.png"/>
          <p:cNvPicPr/>
          <p:nvPr/>
        </p:nvPicPr>
        <p:blipFill>
          <a:blip r:embed="rId1"/>
          <a:stretch/>
        </p:blipFill>
        <p:spPr>
          <a:xfrm>
            <a:off x="357120" y="714240"/>
            <a:ext cx="8450280" cy="537048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3"/>
          <p:cNvSpPr/>
          <p:nvPr/>
        </p:nvSpPr>
        <p:spPr>
          <a:xfrm>
            <a:off x="0" y="72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714240" y="6334200"/>
            <a:ext cx="8072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 Sans MT"/>
              </a:rPr>
              <a:t>Signs &amp; Symptoms: A 2-in-1 Reference for Nurses, Copyright © 2007 Lippincott Williams &amp; Wilkins, </a:t>
            </a:r>
            <a:r>
              <a:rPr b="0" i="1" lang="en-US" sz="1400" spc="-1" strike="noStrike">
                <a:solidFill>
                  <a:srgbClr val="ffffff"/>
                </a:solidFill>
                <a:latin typeface="Gill Sans MT"/>
              </a:rPr>
              <a:t>www.wrongdiagnosis.com/bookimages/14/4721.1.p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Content Placeholder 3" descr="trousseau.jpg"/>
          <p:cNvPicPr/>
          <p:nvPr/>
        </p:nvPicPr>
        <p:blipFill>
          <a:blip r:embed="rId1"/>
          <a:stretch/>
        </p:blipFill>
        <p:spPr>
          <a:xfrm>
            <a:off x="357120" y="785880"/>
            <a:ext cx="3521160" cy="51656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4071600" y="214200"/>
            <a:ext cx="468612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Trousseau sign:</a:t>
            </a:r>
            <a:br>
              <a:rPr sz="2600"/>
            </a:br>
            <a:r>
              <a:rPr b="0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(very uncomfortable and painful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A blood pressure cuff is inflated to a pressure above the patients systolic level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Pressure is continued for several minute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Carpopedal spasm: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* flexion at the wrist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* flexion at the MP joint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* extension of the IP joint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* adduction thumbs/finger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Content Placeholder 4" descr="art-VentElec_ch13_fig10.jpg"/>
          <p:cNvPicPr/>
          <p:nvPr/>
        </p:nvPicPr>
        <p:blipFill>
          <a:blip r:embed="rId1"/>
          <a:stretch/>
        </p:blipFill>
        <p:spPr>
          <a:xfrm>
            <a:off x="214200" y="1214280"/>
            <a:ext cx="4384800" cy="433872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 txBox="1"/>
          <p:nvPr/>
        </p:nvSpPr>
        <p:spPr>
          <a:xfrm>
            <a:off x="4786200" y="1428480"/>
            <a:ext cx="392904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88c"/>
                </a:solidFill>
                <a:latin typeface="Gill Sans MT"/>
                <a:ea typeface="Arial"/>
              </a:rPr>
              <a:t>Long QT interval with normal T wav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88c"/>
                </a:solidFill>
                <a:latin typeface="Gill Sans MT"/>
                <a:ea typeface="Arial"/>
              </a:rPr>
              <a:t>Prolongation of the ST segment with little shift from the baseli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Bookman Old Style"/>
                <a:ea typeface="Times New Roman"/>
              </a:rPr>
              <a:t>History that suggests hypocalcemia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Newborns (can be unspecific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6666"/>
                </a:solidFill>
                <a:latin typeface="Gill Sans MT"/>
                <a:ea typeface="Arial"/>
              </a:rPr>
              <a:t>Asymptomatic</a:t>
            </a:r>
            <a:endParaRPr b="0" lang="en-US" sz="23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6666"/>
                </a:solidFill>
                <a:latin typeface="Gill Sans MT"/>
                <a:ea typeface="Arial"/>
              </a:rPr>
              <a:t>Lethargy</a:t>
            </a:r>
            <a:endParaRPr b="0" lang="en-US" sz="23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6666"/>
                </a:solidFill>
                <a:latin typeface="Gill Sans MT"/>
                <a:ea typeface="Arial"/>
              </a:rPr>
              <a:t>Poor feeding</a:t>
            </a:r>
            <a:endParaRPr b="0" lang="en-US" sz="23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6666"/>
                </a:solidFill>
                <a:latin typeface="Gill Sans MT"/>
                <a:ea typeface="Arial"/>
              </a:rPr>
              <a:t>Vomiting</a:t>
            </a:r>
            <a:endParaRPr b="0" lang="en-US" sz="23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6666"/>
                </a:solidFill>
                <a:latin typeface="Gill Sans MT"/>
                <a:ea typeface="Arial"/>
              </a:rPr>
              <a:t>Abdominal distention</a:t>
            </a:r>
            <a:endParaRPr b="0" lang="en-US" sz="23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Childre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6666"/>
                </a:solidFill>
                <a:latin typeface="Gill Sans MT"/>
                <a:ea typeface="Arial"/>
              </a:rPr>
              <a:t>Seizures</a:t>
            </a:r>
            <a:endParaRPr b="0" lang="en-US" sz="23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6666"/>
                </a:solidFill>
                <a:latin typeface="Gill Sans MT"/>
                <a:ea typeface="Arial"/>
              </a:rPr>
              <a:t>Twitching</a:t>
            </a:r>
            <a:endParaRPr b="0" lang="en-US" sz="23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6666"/>
                </a:solidFill>
                <a:latin typeface="Gill Sans MT"/>
                <a:ea typeface="Arial"/>
              </a:rPr>
              <a:t>Cramping</a:t>
            </a:r>
            <a:endParaRPr b="0" lang="en-US" sz="23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6666"/>
                </a:solidFill>
                <a:latin typeface="Gill Sans MT"/>
                <a:ea typeface="Arial"/>
              </a:rPr>
              <a:t>Laryngospasm</a:t>
            </a:r>
            <a:endParaRPr b="0" lang="en-US" sz="2300" spc="-1" strike="noStrike">
              <a:solidFill>
                <a:srgbClr val="66666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Bookman Old Style"/>
                <a:ea typeface="Times New Roman"/>
              </a:rPr>
              <a:t>Etiology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21428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eonatal hypocalcemia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Gill Sans MT"/>
              </a:rPr>
              <a:t>Early neonatal hypocalcemia</a:t>
            </a:r>
            <a:r>
              <a:rPr b="0" lang="en-US" sz="2300" spc="-1" strike="noStrike">
                <a:solidFill>
                  <a:srgbClr val="666666"/>
                </a:solidFill>
                <a:latin typeface="Gill Sans MT"/>
              </a:rPr>
              <a:t> (48-72 hours)</a:t>
            </a:r>
            <a:endParaRPr b="0" lang="en-US" sz="2300" spc="-1" strike="noStrike">
              <a:solidFill>
                <a:srgbClr val="666666"/>
              </a:solidFill>
              <a:latin typeface="Gill Sans MT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ematur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lnSpc>
                <a:spcPct val="90000"/>
              </a:lnSpc>
              <a:spcBef>
                <a:spcPts val="400"/>
              </a:spcBef>
              <a:buClr>
                <a:srgbClr val="c9004d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Poor intake, hypoalbuminemia, reduced responsiveness to vitamin D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irth asphyxi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lnSpc>
                <a:spcPct val="90000"/>
              </a:lnSpc>
              <a:spcBef>
                <a:spcPts val="400"/>
              </a:spcBef>
              <a:buClr>
                <a:srgbClr val="c9004d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elay feeding, increased calcitonin, endogenous phosphate load high, alkali therapy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fant to diabetic moth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lnSpc>
                <a:spcPct val="90000"/>
              </a:lnSpc>
              <a:spcBef>
                <a:spcPts val="400"/>
              </a:spcBef>
              <a:buClr>
                <a:srgbClr val="c9004d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Magnesium depletion → functional hypoparathyroidism → hypocalcemi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UG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Bookman Old Style"/>
                <a:ea typeface="Times New Roman"/>
              </a:rPr>
              <a:t>Etiology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Gill Sans MT"/>
                <a:ea typeface="Arial"/>
              </a:rPr>
              <a:t>Late neonatal hypocalcemia</a:t>
            </a:r>
            <a:endParaRPr b="0" lang="en-US" sz="28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666666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Exogenous phosphate loa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400"/>
              </a:spcBef>
              <a:buClr>
                <a:srgbClr val="c9004d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Phosphate-rich formulas / cow’s milk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400"/>
              </a:spcBef>
              <a:buClr>
                <a:srgbClr val="c9004d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Magnesium deficienc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Transient hypoparathyroidism of newbor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Hypoparathyroidis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Gentamycin (24 hourly dosing schedule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Bookman Old Style"/>
                <a:ea typeface="Times New Roman"/>
              </a:rPr>
              <a:t>Etiology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" y="1285560"/>
            <a:ext cx="82296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fants and childr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Gill Sans MT"/>
              </a:rPr>
              <a:t>Hypoparathyroidism</a:t>
            </a:r>
            <a:endParaRPr b="0" lang="en-US" sz="2800" spc="-1" strike="noStrike">
              <a:solidFill>
                <a:srgbClr val="666666"/>
              </a:solidFill>
              <a:latin typeface="Gill Sans MT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mpaired synthesis / secre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lnSpc>
                <a:spcPct val="90000"/>
              </a:lnSpc>
              <a:spcBef>
                <a:spcPts val="400"/>
              </a:spcBef>
              <a:buClr>
                <a:srgbClr val="c9004d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ss/ lack of PTH tissue or defective synthesi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lnSpc>
                <a:spcPct val="90000"/>
              </a:lnSpc>
              <a:spcBef>
                <a:spcPts val="400"/>
              </a:spcBef>
              <a:buClr>
                <a:srgbClr val="c9004d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imary or acquired condi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ective calcium sensing recepto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nd –organ resistance to PTH (pseudohypoparathyroidism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Gill Sans MT"/>
              </a:rPr>
              <a:t>Hypovitaminosis D </a:t>
            </a:r>
            <a:r>
              <a:rPr b="0" i="1" lang="en-US" sz="2300" spc="-1" strike="noStrike">
                <a:solidFill>
                  <a:srgbClr val="666666"/>
                </a:solidFill>
                <a:latin typeface="Gill Sans MT"/>
              </a:rPr>
              <a:t>(MUCH MORE COMMON)</a:t>
            </a:r>
            <a:endParaRPr b="0" lang="en-US" sz="23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Gill Sans MT"/>
              </a:rPr>
              <a:t>Hypomagnesemia</a:t>
            </a:r>
            <a:endParaRPr b="0" lang="en-US" sz="28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Gill Sans MT"/>
              </a:rPr>
              <a:t>Other</a:t>
            </a:r>
            <a:endParaRPr b="0" lang="en-US" sz="28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c007f"/>
                </a:solidFill>
                <a:latin typeface="Bookman Old Style"/>
              </a:rPr>
              <a:t>Synthesis / secretion of PTH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Genetic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Gill Sans MT"/>
                <a:ea typeface="Arial"/>
              </a:rPr>
              <a:t>Autosomal dominant</a:t>
            </a:r>
            <a:endParaRPr b="0" lang="en-US" sz="28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Gill Sans MT"/>
                <a:ea typeface="Arial"/>
              </a:rPr>
              <a:t>Autosomal recessive</a:t>
            </a:r>
            <a:endParaRPr b="0" lang="en-US" sz="28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Gill Sans MT"/>
                <a:ea typeface="Arial"/>
              </a:rPr>
              <a:t>X-Linked</a:t>
            </a:r>
            <a:endParaRPr b="0" lang="en-US" sz="28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Gill Sans MT"/>
                <a:ea typeface="Arial"/>
              </a:rPr>
              <a:t>HDR (</a:t>
            </a:r>
            <a:r>
              <a:rPr b="0" lang="en-US" sz="2800" spc="-1" strike="noStrike">
                <a:solidFill>
                  <a:srgbClr val="666666"/>
                </a:solidFill>
                <a:latin typeface="Gill Sans MT"/>
                <a:ea typeface="Arial"/>
              </a:rPr>
              <a:t>hypoparathyroidism associated with sensorineural deafness and renal dysplasia)</a:t>
            </a:r>
            <a:endParaRPr b="0" lang="en-US" sz="28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Gill Sans MT"/>
                <a:ea typeface="Arial"/>
              </a:rPr>
              <a:t>DiGeorge's syndrome </a:t>
            </a:r>
            <a:endParaRPr b="0" lang="en-US" sz="28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Gill Sans MT"/>
                <a:ea typeface="Arial"/>
              </a:rPr>
              <a:t>Mitochondrial disorders: </a:t>
            </a:r>
            <a:endParaRPr b="0" lang="en-US" sz="2800" spc="-1" strike="noStrike">
              <a:solidFill>
                <a:srgbClr val="666666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Gill Sans MT"/>
                <a:ea typeface="Arial"/>
              </a:rPr>
              <a:t>MELAS (</a:t>
            </a:r>
            <a:r>
              <a:rPr b="0" lang="en-US" sz="2500" spc="-1" strike="noStrike">
                <a:solidFill>
                  <a:srgbClr val="000000"/>
                </a:solidFill>
                <a:latin typeface="Gill Sans MT"/>
                <a:ea typeface="Arial"/>
              </a:rPr>
              <a:t>mitochondrial encephalopathy, lactic acidosis and stroke-like episode)</a:t>
            </a:r>
            <a:r>
              <a:rPr b="0" lang="en-GB" sz="2500" spc="-1" strike="noStrike">
                <a:solidFill>
                  <a:srgbClr val="000000"/>
                </a:solidFill>
                <a:latin typeface="Gill Sans MT"/>
                <a:ea typeface="Arial"/>
              </a:rPr>
              <a:t>,  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c007f"/>
                </a:solidFill>
                <a:latin typeface="Bookman Old Style"/>
              </a:rPr>
              <a:t>Synthesis / secretion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Autoimmun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Gill Sans MT"/>
                <a:ea typeface="Arial"/>
              </a:rPr>
              <a:t>APECED (</a:t>
            </a:r>
            <a:r>
              <a:rPr b="0" lang="en-US" sz="2800" spc="-1" strike="noStrike">
                <a:solidFill>
                  <a:srgbClr val="666666"/>
                </a:solidFill>
                <a:latin typeface="Gill Sans MT"/>
                <a:ea typeface="Arial"/>
              </a:rPr>
              <a:t>autoimmune polyendocrinopathy-candidiasis-ectodermal dystrophy</a:t>
            </a:r>
            <a:r>
              <a:rPr b="0" lang="en-GB" sz="2800" spc="-1" strike="noStrike">
                <a:solidFill>
                  <a:srgbClr val="666666"/>
                </a:solidFill>
                <a:latin typeface="Gill Sans MT"/>
                <a:ea typeface="Arial"/>
              </a:rPr>
              <a:t> syndrome)</a:t>
            </a:r>
            <a:endParaRPr b="0" lang="en-US" sz="2800" spc="-1" strike="noStrike">
              <a:solidFill>
                <a:srgbClr val="666666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  <a:ea typeface="Arial"/>
              </a:rPr>
              <a:t>Hypoparathyroidis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  <a:ea typeface="Arial"/>
              </a:rPr>
              <a:t>Primary adrenal insufficienc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  <a:ea typeface="Arial"/>
              </a:rPr>
              <a:t>Chronic mucocutaneous candidiasi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c007f"/>
                </a:solidFill>
                <a:latin typeface="Bookman Old Style"/>
              </a:rPr>
              <a:t>Synthesis / secretion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Acquire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Gill Sans MT"/>
                <a:ea typeface="Arial"/>
              </a:rPr>
              <a:t>Thyroid surgery</a:t>
            </a:r>
            <a:endParaRPr b="0" lang="en-US" sz="28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Gill Sans MT"/>
                <a:ea typeface="Arial"/>
              </a:rPr>
              <a:t>Parathyroidectomy </a:t>
            </a:r>
            <a:endParaRPr b="0" lang="en-US" sz="28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Gill Sans MT"/>
                <a:ea typeface="Arial"/>
              </a:rPr>
              <a:t>Iron deposition with chronic transfusions</a:t>
            </a:r>
            <a:endParaRPr b="0" lang="en-US" sz="28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Gill Sans MT"/>
                <a:ea typeface="Arial"/>
              </a:rPr>
              <a:t>Wilson’s disease</a:t>
            </a:r>
            <a:endParaRPr b="0" lang="en-US" sz="28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Gill Sans MT"/>
                <a:ea typeface="Arial"/>
              </a:rPr>
              <a:t>Gram negative sepsis, toxic shock, AIDS</a:t>
            </a:r>
            <a:endParaRPr b="0" lang="en-US" sz="2800" spc="-1" strike="noStrike">
              <a:solidFill>
                <a:srgbClr val="666666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  <a:ea typeface="Arial"/>
              </a:rPr>
              <a:t>? Macrophage-generated cytokin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95280" y="1197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Pathophysiolog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Etiolog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Diagnostic approach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Management princip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c007f"/>
                </a:solidFill>
                <a:latin typeface="Bookman Old Style"/>
              </a:rPr>
              <a:t>Pseudohypoparathyroidism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Target organ insensitivity to PTH (bone / kidney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Gill Sans MT"/>
                <a:ea typeface="Arial"/>
              </a:rPr>
              <a:t>Hypocalcemia</a:t>
            </a:r>
            <a:endParaRPr b="0" lang="en-US" sz="28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Gill Sans MT"/>
                <a:ea typeface="Arial"/>
              </a:rPr>
              <a:t>Hyperphosphatemia</a:t>
            </a:r>
            <a:endParaRPr b="0" lang="en-US" sz="28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Gill Sans MT"/>
                <a:ea typeface="Arial"/>
              </a:rPr>
              <a:t>Elevated PTH</a:t>
            </a:r>
            <a:endParaRPr b="0" lang="en-US" sz="2800" spc="-1" strike="noStrike">
              <a:solidFill>
                <a:srgbClr val="66666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c007f"/>
                </a:solidFill>
                <a:latin typeface="Bookman Old Style"/>
              </a:rPr>
              <a:t>Pseudohypoparathyroidism (PHP)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  <a:ea typeface="Arial"/>
              </a:rPr>
              <a:t>GNAS1 gene mutations – intracellular signal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Gill Sans MT"/>
                <a:ea typeface="Arial"/>
              </a:rPr>
              <a:t>Expression in tissues either paternally / maternally determined</a:t>
            </a:r>
            <a:endParaRPr b="0" lang="en-US" sz="28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Gill Sans MT"/>
                <a:ea typeface="Arial"/>
              </a:rPr>
              <a:t>Example: renal expression is maternal</a:t>
            </a:r>
            <a:endParaRPr b="0" lang="en-US" sz="28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  <a:ea typeface="Arial"/>
              </a:rPr>
              <a:t>Type 1a PHP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Gill Sans MT"/>
                <a:ea typeface="Arial"/>
              </a:rPr>
              <a:t>AD (maternal transmission)</a:t>
            </a:r>
            <a:endParaRPr b="0" lang="en-US" sz="28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Gill Sans MT"/>
                <a:ea typeface="Arial"/>
              </a:rPr>
              <a:t>Albright’s hereditary osteodystrophy</a:t>
            </a:r>
            <a:endParaRPr b="0" lang="en-US" sz="2800" spc="-1" strike="noStrike">
              <a:solidFill>
                <a:srgbClr val="66666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Content Placeholder 3" descr="http://www.endotext.org/parathyroid/parathyroid9/figures9/figure2.jpg"/>
          <p:cNvPicPr/>
          <p:nvPr/>
        </p:nvPicPr>
        <p:blipFill>
          <a:blip r:embed="rId1"/>
          <a:stretch/>
        </p:blipFill>
        <p:spPr>
          <a:xfrm>
            <a:off x="357120" y="714240"/>
            <a:ext cx="4786560" cy="562608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 txBox="1"/>
          <p:nvPr/>
        </p:nvSpPr>
        <p:spPr>
          <a:xfrm>
            <a:off x="5357520" y="0"/>
            <a:ext cx="35002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541800" indent="-2700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666666"/>
              </a:solidFill>
              <a:latin typeface="Gill Sans MT"/>
            </a:endParaRPr>
          </a:p>
          <a:p>
            <a:pPr lvl="1" marL="541800" indent="-2700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666666"/>
              </a:solidFill>
              <a:latin typeface="Gill Sans MT"/>
            </a:endParaRPr>
          </a:p>
          <a:p>
            <a:pPr lvl="1" marL="541800" indent="-2700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388c"/>
                </a:solidFill>
                <a:uFillTx/>
                <a:latin typeface="Gill Sans MT"/>
              </a:rPr>
              <a:t>Albright’s</a:t>
            </a:r>
            <a:endParaRPr b="0" lang="en-US" sz="2800" spc="-1" strike="noStrike">
              <a:solidFill>
                <a:srgbClr val="666666"/>
              </a:solidFill>
              <a:latin typeface="Gill Sans MT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Short stature &amp; limb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Obesit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Round, flat fac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Short 4e/5e metacarpa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rchibald sig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rachydactyl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otter's thumb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Eye problem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Q problem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Basal ganglia calcification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c007f"/>
                </a:solidFill>
                <a:latin typeface="Bookman Old Style"/>
              </a:rPr>
              <a:t>Pseudopseudohypoparathyroidism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857840" y="1428480"/>
            <a:ext cx="382896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Phenotype of Albright’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NORMAL serum calciu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NO PTH resistanc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Paternal GNAS1 gene muta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9" name="Picture 3" descr="http://www.endotext.org/parathyroid/parathyroid7/figures7/figure3.jpg"/>
          <p:cNvPicPr/>
          <p:nvPr/>
        </p:nvPicPr>
        <p:blipFill>
          <a:blip r:embed="rId1"/>
          <a:stretch/>
        </p:blipFill>
        <p:spPr>
          <a:xfrm>
            <a:off x="468360" y="1413000"/>
            <a:ext cx="353232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c007f"/>
                </a:solidFill>
                <a:latin typeface="Bookman Old Style"/>
              </a:rPr>
              <a:t>Pseudohypoparathyroidism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 MT"/>
                <a:ea typeface="Arial"/>
              </a:rPr>
              <a:t>Type 1b</a:t>
            </a:r>
            <a:endParaRPr b="0" lang="en-US" sz="3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Gill Sans MT"/>
                <a:ea typeface="Arial"/>
              </a:rPr>
              <a:t>Hypocalcemia, no phenotypic abnormality</a:t>
            </a:r>
            <a:endParaRPr b="0" lang="en-US" sz="28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Gill Sans MT"/>
                <a:ea typeface="Arial"/>
              </a:rPr>
              <a:t>AD, maternal transmission</a:t>
            </a:r>
            <a:endParaRPr b="0" lang="en-US" sz="2800" spc="-1" strike="noStrike">
              <a:solidFill>
                <a:srgbClr val="666666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 MT"/>
                <a:ea typeface="Arial"/>
              </a:rPr>
              <a:t>Type 1c</a:t>
            </a:r>
            <a:endParaRPr b="0" lang="en-US" sz="3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Gill Sans MT"/>
                <a:ea typeface="Arial"/>
              </a:rPr>
              <a:t>Looks like type 1a</a:t>
            </a:r>
            <a:endParaRPr b="0" lang="en-US" sz="2800" spc="-1" strike="noStrike">
              <a:solidFill>
                <a:srgbClr val="666666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 MT"/>
                <a:ea typeface="Arial"/>
              </a:rPr>
              <a:t>Type 2</a:t>
            </a:r>
            <a:endParaRPr b="0" lang="en-US" sz="3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Gill Sans MT"/>
                <a:ea typeface="Arial"/>
              </a:rPr>
              <a:t>No features of Albright’s</a:t>
            </a:r>
            <a:endParaRPr b="0" lang="en-US" sz="2800" spc="-1" strike="noStrike">
              <a:solidFill>
                <a:srgbClr val="666666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2" name=""/>
          <p:cNvGraphicFramePr/>
          <p:nvPr/>
        </p:nvGraphicFramePr>
        <p:xfrm>
          <a:off x="0" y="428760"/>
          <a:ext cx="9144000" cy="596412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55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92a7"/>
                    </a:solidFill>
                  </a:tcPr>
                </a:tc>
                <a:tc>
                  <a:txBody>
                    <a:bodyPr lIns="30600" rIns="30600" tIns="30600" bIns="30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HP Ia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92a7"/>
                    </a:solidFill>
                  </a:tcPr>
                </a:tc>
                <a:tc>
                  <a:txBody>
                    <a:bodyPr lIns="30600" rIns="30600" tIns="30600" bIns="30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HP Ib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92a7"/>
                    </a:solidFill>
                  </a:tcPr>
                </a:tc>
                <a:tc>
                  <a:txBody>
                    <a:bodyPr lIns="30600" rIns="30600" tIns="30600" bIns="30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HP 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92a7"/>
                    </a:solidFill>
                  </a:tcPr>
                </a:tc>
                <a:tc>
                  <a:txBody>
                    <a:bodyPr lIns="30600" rIns="30600" tIns="30600" bIns="30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 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PH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92a7"/>
                    </a:solidFill>
                  </a:tcPr>
                </a:tc>
              </a:tr>
              <a:tr h="902520">
                <a:tc>
                  <a:txBody>
                    <a:bodyPr lIns="30600" rIns="30600" tIns="30600" bIns="30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lbright’s phenotype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7cd"/>
                    </a:solidFill>
                  </a:tcPr>
                </a:tc>
                <a:tc>
                  <a:txBody>
                    <a:bodyPr lIns="30600" rIns="30600" tIns="30600" bIns="30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7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7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7cd"/>
                    </a:solidFill>
                  </a:tcPr>
                </a:tc>
                <a:tc>
                  <a:txBody>
                    <a:bodyPr lIns="30600" rIns="30600" tIns="30600" bIns="30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7cd"/>
                    </a:solidFill>
                  </a:tcPr>
                </a:tc>
              </a:tr>
              <a:tr h="902520">
                <a:tc>
                  <a:txBody>
                    <a:bodyPr lIns="30600" rIns="30600" tIns="30600" bIns="30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erum calcium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f4e8"/>
                    </a:solidFill>
                  </a:tcPr>
                </a:tc>
                <a:tc>
                  <a:txBody>
                    <a:bodyPr lIns="30600" rIns="30600" tIns="30600" bIns="30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f4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f4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f4e8"/>
                    </a:solidFill>
                  </a:tcPr>
                </a:tc>
                <a:tc>
                  <a:txBody>
                    <a:bodyPr lIns="30600" rIns="30600" tIns="30600" bIns="30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f4e8"/>
                    </a:solidFill>
                  </a:tcPr>
                </a:tc>
              </a:tr>
              <a:tr h="1323000">
                <a:tc>
                  <a:txBody>
                    <a:bodyPr lIns="30600" rIns="30600" tIns="30600" bIns="30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esponse to PTH cAM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7cd"/>
                    </a:solidFill>
                  </a:tcPr>
                </a:tc>
                <a:tc>
                  <a:txBody>
                    <a:bodyPr lIns="30600" rIns="30600" tIns="30600" bIns="30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7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7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7cd"/>
                    </a:solidFill>
                  </a:tcPr>
                </a:tc>
                <a:tc>
                  <a:txBody>
                    <a:bodyPr lIns="30600" rIns="30600" tIns="30600" bIns="30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L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7cd"/>
                    </a:solidFill>
                  </a:tcPr>
                </a:tc>
              </a:tr>
              <a:tr h="1743480">
                <a:tc>
                  <a:txBody>
                    <a:bodyPr lIns="30600" rIns="30600" tIns="30600" bIns="30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esponse to Phosphor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f4e8"/>
                    </a:solidFill>
                  </a:tcPr>
                </a:tc>
                <a:tc>
                  <a:txBody>
                    <a:bodyPr lIns="30600" rIns="30600" tIns="30600" bIns="30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f4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f4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N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f4e8"/>
                    </a:solidFill>
                  </a:tcPr>
                </a:tc>
                <a:tc>
                  <a:txBody>
                    <a:bodyPr lIns="30600" rIns="30600" tIns="30600" bIns="30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L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f4e8"/>
                    </a:solidFill>
                  </a:tcPr>
                </a:tc>
              </a:tr>
              <a:tr h="1323000">
                <a:tc>
                  <a:txBody>
                    <a:bodyPr lIns="30600" rIns="30600" tIns="30600" bIns="30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ormone Resistance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7cd"/>
                    </a:solidFill>
                  </a:tcPr>
                </a:tc>
                <a:tc>
                  <a:txBody>
                    <a:bodyPr lIns="30600" rIns="30600" tIns="30600" bIns="30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ll hormones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7cd"/>
                    </a:solidFill>
                  </a:tcPr>
                </a:tc>
                <a:tc>
                  <a:txBody>
                    <a:bodyPr lIns="30600" rIns="30600" tIns="30600" bIns="30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TH target tissues only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7cd"/>
                    </a:solidFill>
                  </a:tcPr>
                </a:tc>
                <a:tc>
                  <a:txBody>
                    <a:bodyPr lIns="30600" rIns="30600" tIns="30600" bIns="30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TH target tissues only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7cd"/>
                    </a:solidFill>
                  </a:tcPr>
                </a:tc>
                <a:tc>
                  <a:txBody>
                    <a:bodyPr lIns="30600" rIns="30600" tIns="30600" bIns="30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7cd"/>
                    </a:solidFill>
                  </a:tcPr>
                </a:tc>
              </a:tr>
              <a:tr h="902520">
                <a:tc>
                  <a:txBody>
                    <a:bodyPr lIns="30600" rIns="30600" tIns="30600" bIns="30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olecular defect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f4e8"/>
                    </a:solidFill>
                  </a:tcPr>
                </a:tc>
                <a:tc>
                  <a:txBody>
                    <a:bodyPr lIns="30600" rIns="30600" tIns="30600" bIns="30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sa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f4e8"/>
                    </a:solidFill>
                  </a:tcPr>
                </a:tc>
                <a:tc>
                  <a:txBody>
                    <a:bodyPr lIns="30600" rIns="30600" tIns="30600" bIns="30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PTH R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f4e8"/>
                    </a:solidFill>
                  </a:tcPr>
                </a:tc>
                <a:tc>
                  <a:txBody>
                    <a:bodyPr lIns="30600" rIns="30600" tIns="30600" bIns="30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nknown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f4e8"/>
                    </a:solidFill>
                  </a:tcPr>
                </a:tc>
                <a:tc>
                  <a:txBody>
                    <a:bodyPr lIns="30600" rIns="30600" tIns="30600" bIns="30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s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f4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c007f"/>
                </a:solidFill>
                <a:latin typeface="Bookman Old Style"/>
              </a:rPr>
              <a:t>Hypovitaminosis D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  <a:ea typeface="Arial"/>
              </a:rPr>
              <a:t>Decrease intake or production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  <a:ea typeface="Arial"/>
              </a:rPr>
              <a:t>Increased catabolism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  <a:ea typeface="Arial"/>
              </a:rPr>
              <a:t>Decrease 25-hydroxylation by liver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  <a:ea typeface="Arial"/>
              </a:rPr>
              <a:t>Decrease 1-hydroxylation by kidney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4500720" y="1214280"/>
            <a:ext cx="4176720" cy="516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layed closure of fontane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os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raniotab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layed eruption of teet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ickety rosar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ctus carinatu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arrison sulcii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playing of distal ends of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ng bones bon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ypotoni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eaknes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rowth retard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urrent chest infec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06" name="Picture 3" descr="slde2"/>
          <p:cNvPicPr/>
          <p:nvPr/>
        </p:nvPicPr>
        <p:blipFill>
          <a:blip r:embed="rId1"/>
          <a:stretch/>
        </p:blipFill>
        <p:spPr>
          <a:xfrm>
            <a:off x="468360" y="404640"/>
            <a:ext cx="372744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c007f"/>
                </a:solidFill>
                <a:latin typeface="Bookman Old Style"/>
              </a:rPr>
              <a:t>Hypomagnesemia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 MT"/>
                <a:ea typeface="Arial"/>
              </a:rPr>
              <a:t>Magnesium is required for PTH release</a:t>
            </a:r>
            <a:endParaRPr b="0" lang="en-US" sz="3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 MT"/>
                <a:ea typeface="Arial"/>
              </a:rPr>
              <a:t>May also be required for effects on target organs</a:t>
            </a:r>
            <a:endParaRPr b="0" lang="en-US" sz="3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 MT"/>
                <a:ea typeface="Arial"/>
              </a:rPr>
              <a:t>Mechanisms:</a:t>
            </a:r>
            <a:endParaRPr b="0" lang="en-US" sz="3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66666"/>
                </a:solidFill>
                <a:latin typeface="Gill Sans MT"/>
                <a:ea typeface="Arial"/>
              </a:rPr>
              <a:t>End-organ unresponsiveness to PTH</a:t>
            </a:r>
            <a:endParaRPr b="0" lang="en-US" sz="27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66666"/>
                </a:solidFill>
                <a:latin typeface="Gill Sans MT"/>
                <a:ea typeface="Arial"/>
              </a:rPr>
              <a:t>Impaired release of PTH</a:t>
            </a:r>
            <a:endParaRPr b="0" lang="en-US" sz="27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66666"/>
                </a:solidFill>
                <a:latin typeface="Gill Sans MT"/>
                <a:ea typeface="Arial"/>
              </a:rPr>
              <a:t>Impaired formation of 1,25-vitamin D3</a:t>
            </a:r>
            <a:endParaRPr b="0" lang="en-US" sz="2700" spc="-1" strike="noStrike">
              <a:solidFill>
                <a:srgbClr val="666666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c007f"/>
                </a:solidFill>
                <a:latin typeface="Bookman Old Style"/>
              </a:rPr>
              <a:t>Hypomagnesemia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 MT"/>
                <a:ea typeface="Arial"/>
              </a:rPr>
              <a:t>Primary</a:t>
            </a:r>
            <a:endParaRPr b="0" lang="en-US" sz="3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Gill Sans MT"/>
                <a:ea typeface="Arial"/>
              </a:rPr>
              <a:t>Autosomal recessive</a:t>
            </a:r>
            <a:endParaRPr b="0" lang="en-US" sz="28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Gill Sans MT"/>
                <a:ea typeface="Arial"/>
              </a:rPr>
              <a:t>Present at 1 month age with seizures</a:t>
            </a:r>
            <a:endParaRPr b="0" lang="en-US" sz="28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6666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 MT"/>
                <a:ea typeface="Arial"/>
              </a:rPr>
              <a:t>Secondary</a:t>
            </a:r>
            <a:endParaRPr b="0" lang="en-US" sz="3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Gill Sans MT"/>
                <a:ea typeface="Arial"/>
              </a:rPr>
              <a:t>Intestinal absorption vs renal excretion</a:t>
            </a:r>
            <a:endParaRPr b="0" lang="en-US" sz="2800" spc="-1" strike="noStrike">
              <a:solidFill>
                <a:srgbClr val="66666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Bookman Old Style"/>
                <a:ea typeface="Times New Roman"/>
              </a:rPr>
              <a:t>Introduction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95280" y="1700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Calcium is the most abundant mineral in the body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In pediatric ICU, hypocalcemia has higher mortality then normocalcemia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We are interested in ionized calcium leve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c007f"/>
                </a:solidFill>
                <a:latin typeface="Bookman Old Style"/>
              </a:rPr>
              <a:t>Other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 MT"/>
                <a:ea typeface="Arial"/>
              </a:rPr>
              <a:t>Pancreatitis</a:t>
            </a:r>
            <a:endParaRPr b="0" lang="en-US" sz="3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 MT"/>
                <a:ea typeface="Arial"/>
              </a:rPr>
              <a:t>Citrated products</a:t>
            </a:r>
            <a:endParaRPr b="0" lang="en-US" sz="3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 MT"/>
                <a:ea typeface="Arial"/>
              </a:rPr>
              <a:t>Hungry bone syndrome</a:t>
            </a:r>
            <a:endParaRPr b="0" lang="en-US" sz="3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 MT"/>
                <a:ea typeface="Arial"/>
              </a:rPr>
              <a:t>Hyperphosphatemia</a:t>
            </a:r>
            <a:endParaRPr b="0" lang="en-US" sz="3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 MT"/>
                <a:ea typeface="Arial"/>
              </a:rPr>
              <a:t>Fluoride poisoning</a:t>
            </a:r>
            <a:endParaRPr b="0" lang="en-US" sz="3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c007f"/>
                </a:solidFill>
                <a:latin typeface="Bookman Old Style"/>
              </a:rPr>
              <a:t>Other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 MT"/>
                <a:ea typeface="Arial"/>
              </a:rPr>
              <a:t>Hungry bone syndrome</a:t>
            </a:r>
            <a:endParaRPr b="0" lang="en-US" sz="3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66666"/>
                </a:solidFill>
                <a:latin typeface="Gill Sans MT"/>
                <a:ea typeface="Arial"/>
              </a:rPr>
              <a:t>After prolonged period of calcium absorption</a:t>
            </a:r>
            <a:endParaRPr b="0" lang="en-US" sz="3100" spc="-1" strike="noStrike">
              <a:solidFill>
                <a:srgbClr val="666666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66666"/>
                </a:solidFill>
                <a:latin typeface="Gill Sans MT"/>
                <a:ea typeface="Arial"/>
              </a:rPr>
              <a:t>Rebound phase</a:t>
            </a:r>
            <a:endParaRPr b="0" lang="en-US" sz="3100" spc="-1" strike="noStrike">
              <a:solidFill>
                <a:srgbClr val="666666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66666"/>
                </a:solidFill>
                <a:latin typeface="Gill Sans MT"/>
                <a:ea typeface="Arial"/>
              </a:rPr>
              <a:t>Avid uptake of calcium by bone</a:t>
            </a:r>
            <a:endParaRPr b="0" lang="en-US" sz="3100" spc="-1" strike="noStrike">
              <a:solidFill>
                <a:srgbClr val="666666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66666"/>
                </a:solidFill>
                <a:latin typeface="Gill Sans MT"/>
                <a:ea typeface="Arial"/>
              </a:rPr>
              <a:t>Parallel uptake of magnesium by bone</a:t>
            </a:r>
            <a:endParaRPr b="0" lang="en-US" sz="3100" spc="-1" strike="noStrike">
              <a:solidFill>
                <a:srgbClr val="666666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66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 MT"/>
                <a:ea typeface="Arial"/>
              </a:rPr>
              <a:t>Following parathyroidectomy</a:t>
            </a:r>
            <a:endParaRPr b="0" lang="en-US" sz="3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Bookman Old Style"/>
                <a:ea typeface="Times New Roman"/>
              </a:rPr>
              <a:t>Workup - blood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 MT"/>
                <a:ea typeface="Arial"/>
              </a:rPr>
              <a:t>Total and ionized calcium</a:t>
            </a:r>
            <a:endParaRPr b="0" lang="en-US" sz="3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 MT"/>
                <a:ea typeface="Arial"/>
              </a:rPr>
              <a:t>Magnesium</a:t>
            </a:r>
            <a:endParaRPr b="0" lang="en-US" sz="3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 MT"/>
                <a:ea typeface="Arial"/>
              </a:rPr>
              <a:t>Phosphate</a:t>
            </a:r>
            <a:endParaRPr b="0" lang="en-US" sz="3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 MT"/>
                <a:ea typeface="Arial"/>
              </a:rPr>
              <a:t>UKE and s-glucose</a:t>
            </a:r>
            <a:endParaRPr b="0" lang="en-US" sz="3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 MT"/>
                <a:ea typeface="Arial"/>
              </a:rPr>
              <a:t>PTH</a:t>
            </a:r>
            <a:endParaRPr b="0" lang="en-US" sz="3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 MT"/>
                <a:ea typeface="Arial"/>
              </a:rPr>
              <a:t>Vitamin D metabolite</a:t>
            </a:r>
            <a:endParaRPr b="0" lang="en-US" sz="3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 MT"/>
                <a:ea typeface="Arial"/>
              </a:rPr>
              <a:t>Urine-CMP and –creatinine</a:t>
            </a:r>
            <a:endParaRPr b="0" lang="en-US" sz="3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 MT"/>
                <a:ea typeface="Arial"/>
              </a:rPr>
              <a:t>S-ALP</a:t>
            </a:r>
            <a:endParaRPr b="0" lang="en-US" sz="3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Bookman Old Style"/>
                <a:ea typeface="Times New Roman"/>
              </a:rPr>
              <a:t>Workup - imaging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 MT"/>
                <a:ea typeface="Arial"/>
              </a:rPr>
              <a:t>CXR</a:t>
            </a:r>
            <a:endParaRPr b="0" lang="en-US" sz="3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 MT"/>
                <a:ea typeface="Arial"/>
              </a:rPr>
              <a:t>Ankle and wrist XR</a:t>
            </a:r>
            <a:endParaRPr b="0" lang="en-US" sz="3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Bookman Old Style"/>
                <a:ea typeface="Times New Roman"/>
              </a:rPr>
              <a:t>Workup - other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 MT"/>
                <a:ea typeface="Arial"/>
              </a:rPr>
              <a:t>ECG</a:t>
            </a:r>
            <a:endParaRPr b="0" lang="en-US" sz="3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 MT"/>
                <a:ea typeface="Arial"/>
              </a:rPr>
              <a:t>Malabsorption workup</a:t>
            </a:r>
            <a:endParaRPr b="0" lang="en-US" sz="3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 MT"/>
                <a:ea typeface="Arial"/>
              </a:rPr>
              <a:t>Karyotyping and family screening</a:t>
            </a:r>
            <a:endParaRPr b="0" lang="en-US" sz="3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Bookman Old Style"/>
                <a:ea typeface="Times New Roman"/>
              </a:rPr>
              <a:t>Management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01"/>
              </a:spcBef>
              <a:buClr>
                <a:srgbClr val="ff388c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000" spc="-1" strike="noStrike">
                <a:solidFill>
                  <a:srgbClr val="000000"/>
                </a:solidFill>
                <a:latin typeface="Gill Sans MT"/>
                <a:ea typeface="Arial"/>
              </a:rPr>
              <a:t>Dependent on the underlying cause and severity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495360" indent="-495360">
              <a:spcBef>
                <a:spcPts val="601"/>
              </a:spcBef>
              <a:buClr>
                <a:srgbClr val="ff388c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000" spc="-1" strike="noStrike">
                <a:solidFill>
                  <a:srgbClr val="000000"/>
                </a:solidFill>
                <a:latin typeface="Gill Sans MT"/>
                <a:ea typeface="Arial"/>
              </a:rPr>
              <a:t>Administration of calcium alone is only transiently effective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495360" indent="-495360">
              <a:spcBef>
                <a:spcPts val="601"/>
              </a:spcBef>
              <a:buClr>
                <a:srgbClr val="ff388c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000" spc="-1" strike="noStrike">
                <a:solidFill>
                  <a:srgbClr val="000000"/>
                </a:solidFill>
                <a:latin typeface="Gill Sans MT"/>
                <a:ea typeface="Arial"/>
              </a:rPr>
              <a:t>Mild asymptomatic cases: Often adequate to increase dietary calcium by 1000 mg/day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495360" indent="-495360">
              <a:spcBef>
                <a:spcPts val="601"/>
              </a:spcBef>
              <a:buClr>
                <a:srgbClr val="ff388c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000" spc="-1" strike="noStrike">
                <a:solidFill>
                  <a:srgbClr val="000000"/>
                </a:solidFill>
                <a:latin typeface="Gill Sans MT"/>
                <a:ea typeface="Arial"/>
              </a:rPr>
              <a:t>Symptomatic: Treat immediately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495360" indent="-495360">
              <a:spcBef>
                <a:spcPts val="601"/>
              </a:spcBef>
              <a:buClr>
                <a:srgbClr val="ff388c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28400" y="500040"/>
            <a:ext cx="701028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666666"/>
                </a:solidFill>
                <a:latin typeface="Bookman Old Style"/>
                <a:ea typeface="Times New Roman"/>
              </a:rPr>
              <a:t>Treatment of hypocalcaemia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196920" y="1071720"/>
            <a:ext cx="874872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ffcc00"/>
                </a:solidFill>
                <a:latin typeface="Gill Sans MT"/>
                <a:ea typeface="Arial"/>
              </a:rPr>
              <a:t>	</a:t>
            </a:r>
            <a:r>
              <a:rPr b="0" lang="en-ZA" sz="2700" spc="-1" strike="noStrike">
                <a:solidFill>
                  <a:srgbClr val="ffcc00"/>
                </a:solidFill>
                <a:latin typeface="Gill Sans MT"/>
                <a:ea typeface="Arial"/>
              </a:rPr>
              <a:t>Symptomatic hypocalcaemia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100" spc="-1" strike="noStrike">
                <a:solidFill>
                  <a:srgbClr val="666666"/>
                </a:solidFill>
                <a:latin typeface="Gill Sans MT"/>
                <a:ea typeface="Arial"/>
              </a:rPr>
              <a:t>IV Calcium should only be given with close monitoring</a:t>
            </a:r>
            <a:endParaRPr b="0" lang="en-US" sz="21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100" spc="-1" strike="noStrike">
                <a:solidFill>
                  <a:srgbClr val="666666"/>
                </a:solidFill>
                <a:latin typeface="Gill Sans MT"/>
                <a:ea typeface="Arial"/>
              </a:rPr>
              <a:t>Should be on cardiac monitor</a:t>
            </a:r>
            <a:endParaRPr b="0" lang="en-US" sz="21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100" spc="-1" strike="noStrike">
                <a:solidFill>
                  <a:srgbClr val="666666"/>
                </a:solidFill>
                <a:latin typeface="Gill Sans MT"/>
                <a:ea typeface="Arial"/>
              </a:rPr>
              <a:t>Mix with NaCl or 5 % D/W (not bicarbonate/lactate containing solutions)</a:t>
            </a:r>
            <a:endParaRPr b="0" lang="en-US" sz="21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ffcc00"/>
                </a:solidFill>
                <a:latin typeface="Gill Sans MT"/>
                <a:ea typeface="Arial"/>
              </a:rPr>
              <a:t>	</a:t>
            </a:r>
            <a:r>
              <a:rPr b="0" lang="en-ZA" sz="2700" spc="-1" strike="noStrike">
                <a:solidFill>
                  <a:srgbClr val="ffcc00"/>
                </a:solidFill>
                <a:latin typeface="Gill Sans MT"/>
                <a:ea typeface="Arial"/>
              </a:rPr>
              <a:t>Risks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100" spc="-1" strike="noStrike">
                <a:solidFill>
                  <a:srgbClr val="666666"/>
                </a:solidFill>
                <a:latin typeface="Gill Sans MT"/>
                <a:ea typeface="Arial"/>
              </a:rPr>
              <a:t>Tissue necrosis/calcification if extravasates</a:t>
            </a:r>
            <a:endParaRPr b="0" lang="en-US" sz="21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100" spc="-1" strike="noStrike">
                <a:solidFill>
                  <a:srgbClr val="666666"/>
                </a:solidFill>
                <a:latin typeface="Gill Sans MT"/>
                <a:ea typeface="Arial"/>
              </a:rPr>
              <a:t>Calcium can inhibit sinus node </a:t>
            </a:r>
            <a:r>
              <a:rPr b="0" lang="en-ZA" sz="2100" spc="-1" strike="noStrike">
                <a:solidFill>
                  <a:srgbClr val="666666"/>
                </a:solidFill>
                <a:latin typeface="Symbol"/>
                <a:ea typeface="Symbol"/>
              </a:rPr>
              <a:t></a:t>
            </a:r>
            <a:r>
              <a:rPr b="0" lang="en-ZA" sz="2100" spc="-1" strike="noStrike">
                <a:solidFill>
                  <a:srgbClr val="666666"/>
                </a:solidFill>
                <a:latin typeface="Gill Sans MT"/>
                <a:ea typeface="Arial"/>
              </a:rPr>
              <a:t> bradycardia + arrest</a:t>
            </a:r>
            <a:endParaRPr b="0" lang="en-US" sz="2100" spc="-1" strike="noStrike">
              <a:solidFill>
                <a:srgbClr val="666666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Gill Sans MT"/>
                <a:ea typeface="Arial"/>
              </a:rPr>
              <a:t>Stop infusion if bradycardia develop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100" spc="-1" strike="noStrike">
                <a:solidFill>
                  <a:srgbClr val="666666"/>
                </a:solidFill>
                <a:latin typeface="Gill Sans MT"/>
                <a:ea typeface="Arial"/>
              </a:rPr>
              <a:t>Avoid complete correction of hypocalcaemia</a:t>
            </a:r>
            <a:endParaRPr b="0" lang="en-US" sz="21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100" spc="-1" strike="noStrike">
                <a:solidFill>
                  <a:srgbClr val="666666"/>
                </a:solidFill>
                <a:latin typeface="Gill Sans MT"/>
                <a:ea typeface="Arial"/>
              </a:rPr>
              <a:t>With acidosis and </a:t>
            </a:r>
            <a:r>
              <a:rPr b="0" lang="en-ZA" sz="2100" spc="-1" strike="noStrike">
                <a:solidFill>
                  <a:srgbClr val="666666"/>
                </a:solidFill>
                <a:latin typeface="Symbol"/>
                <a:ea typeface="Symbol"/>
              </a:rPr>
              <a:t></a:t>
            </a:r>
            <a:r>
              <a:rPr b="0" lang="en-ZA" sz="2100" spc="-1" strike="noStrike">
                <a:solidFill>
                  <a:srgbClr val="666666"/>
                </a:solidFill>
                <a:latin typeface="Gill Sans MT"/>
                <a:ea typeface="Arial"/>
              </a:rPr>
              <a:t> S-Ca – give Ca before correcting acidosis </a:t>
            </a:r>
            <a:endParaRPr b="0" lang="en-US" sz="21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100" spc="-1" strike="noStrike">
                <a:solidFill>
                  <a:srgbClr val="666666"/>
                </a:solidFill>
                <a:latin typeface="Gill Sans MT"/>
                <a:ea typeface="Arial"/>
              </a:rPr>
              <a:t>If </a:t>
            </a:r>
            <a:r>
              <a:rPr b="0" lang="en-ZA" sz="2100" spc="-1" strike="noStrike">
                <a:solidFill>
                  <a:srgbClr val="666666"/>
                </a:solidFill>
                <a:latin typeface="Symbol"/>
                <a:ea typeface="Symbol"/>
              </a:rPr>
              <a:t></a:t>
            </a:r>
            <a:r>
              <a:rPr b="0" lang="en-ZA" sz="2100" spc="-1" strike="noStrike">
                <a:solidFill>
                  <a:srgbClr val="666666"/>
                </a:solidFill>
                <a:latin typeface="Gill Sans MT"/>
                <a:ea typeface="Arial"/>
              </a:rPr>
              <a:t> Mg is cause of </a:t>
            </a:r>
            <a:r>
              <a:rPr b="0" lang="en-ZA" sz="2100" spc="-1" strike="noStrike">
                <a:solidFill>
                  <a:srgbClr val="666666"/>
                </a:solidFill>
                <a:latin typeface="Symbol"/>
                <a:ea typeface="Symbol"/>
              </a:rPr>
              <a:t></a:t>
            </a:r>
            <a:r>
              <a:rPr b="0" lang="en-ZA" sz="2100" spc="-1" strike="noStrike">
                <a:solidFill>
                  <a:srgbClr val="666666"/>
                </a:solidFill>
                <a:latin typeface="Gill Sans MT"/>
                <a:ea typeface="Arial"/>
              </a:rPr>
              <a:t> S-Ca – treat and correct hypomagnesaemia</a:t>
            </a:r>
            <a:endParaRPr b="0" lang="en-US" sz="2100" spc="-1" strike="noStrike">
              <a:solidFill>
                <a:srgbClr val="66666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99680" y="285480"/>
            <a:ext cx="701028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666666"/>
                </a:solidFill>
                <a:latin typeface="Bookman Old Style"/>
                <a:ea typeface="Times New Roman"/>
              </a:rPr>
              <a:t>Treatment of hypocalcaemia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214200" y="1428840"/>
            <a:ext cx="87487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ffcc00"/>
                </a:solidFill>
                <a:latin typeface="Gill Sans MT"/>
                <a:ea typeface="Arial"/>
              </a:rPr>
              <a:t>	</a:t>
            </a:r>
            <a:r>
              <a:rPr b="0" lang="en-ZA" sz="2600" spc="-1" strike="noStrike">
                <a:solidFill>
                  <a:srgbClr val="ffcc00"/>
                </a:solidFill>
                <a:latin typeface="Gill Sans MT"/>
                <a:ea typeface="Arial"/>
              </a:rPr>
              <a:t>  </a:t>
            </a:r>
            <a:r>
              <a:rPr b="0" lang="en-ZA" sz="2600" spc="-1" strike="noStrike">
                <a:solidFill>
                  <a:srgbClr val="ffcc00"/>
                </a:solidFill>
                <a:latin typeface="Gill Sans MT"/>
                <a:ea typeface="Arial"/>
              </a:rPr>
              <a:t>Symptomatic hypocalcaemi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ZA" sz="2800" spc="-1" strike="noStrike">
                <a:solidFill>
                  <a:srgbClr val="000000"/>
                </a:solidFill>
                <a:latin typeface="Gill Sans MT"/>
                <a:ea typeface="Arial"/>
              </a:rPr>
              <a:t>Early neonatal hypocalcaemia</a:t>
            </a:r>
            <a:endParaRPr b="0" lang="en-US" sz="28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300" spc="-1" strike="noStrike">
                <a:solidFill>
                  <a:srgbClr val="666666"/>
                </a:solidFill>
                <a:latin typeface="Gill Sans MT"/>
                <a:ea typeface="Arial"/>
              </a:rPr>
              <a:t>Neonates: Ca gluconate:10 mg/kg (1 ml/kg of 10% solution) Slowly IV + monitoring ECG</a:t>
            </a:r>
            <a:endParaRPr b="0" lang="en-US" sz="23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300" spc="-1" strike="noStrike">
                <a:solidFill>
                  <a:srgbClr val="666666"/>
                </a:solidFill>
                <a:latin typeface="Gill Sans MT"/>
                <a:ea typeface="Arial"/>
              </a:rPr>
              <a:t>Occasionally associated transient hypomagnesaemia </a:t>
            </a:r>
            <a:endParaRPr b="0" lang="en-US" sz="2300" spc="-1" strike="noStrike">
              <a:solidFill>
                <a:srgbClr val="666666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Gill Sans MT"/>
                <a:ea typeface="Arial"/>
              </a:rPr>
              <a:t>Treat prior to Ca administr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300" spc="-1" strike="noStrike">
                <a:solidFill>
                  <a:srgbClr val="666666"/>
                </a:solidFill>
                <a:latin typeface="Gill Sans MT"/>
                <a:ea typeface="Arial"/>
              </a:rPr>
              <a:t>Start oral Calcium as soon as possible </a:t>
            </a:r>
            <a:endParaRPr b="0" lang="en-US" sz="23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300" spc="-1" strike="noStrike">
                <a:solidFill>
                  <a:srgbClr val="666666"/>
                </a:solidFill>
                <a:latin typeface="Gill Sans MT"/>
                <a:ea typeface="Arial"/>
              </a:rPr>
              <a:t>Early neonatal hypocalcaemia normalizes in 2-3 days</a:t>
            </a:r>
            <a:endParaRPr b="0" lang="en-US" sz="23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300" spc="-1" strike="noStrike">
                <a:solidFill>
                  <a:srgbClr val="666666"/>
                </a:solidFill>
                <a:latin typeface="Gill Sans MT"/>
                <a:ea typeface="Arial"/>
              </a:rPr>
              <a:t>Oral Ca usually necessary for 1 week </a:t>
            </a:r>
            <a:endParaRPr b="0" lang="en-US" sz="2300" spc="-1" strike="noStrike">
              <a:solidFill>
                <a:srgbClr val="66666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701028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666666"/>
                </a:solidFill>
                <a:latin typeface="Bookman Old Style"/>
                <a:ea typeface="Times New Roman"/>
              </a:rPr>
              <a:t>Treatment of hypocalcaemia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500040" y="1785600"/>
            <a:ext cx="756144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ffcc00"/>
                </a:solidFill>
                <a:latin typeface="Gill Sans MT"/>
                <a:ea typeface="Arial"/>
              </a:rPr>
              <a:t>	</a:t>
            </a:r>
            <a:r>
              <a:rPr b="0" lang="en-ZA" sz="2600" spc="-1" strike="noStrike">
                <a:solidFill>
                  <a:srgbClr val="ffcc00"/>
                </a:solidFill>
                <a:latin typeface="Gill Sans MT"/>
                <a:ea typeface="Arial"/>
              </a:rPr>
              <a:t>Symptomatic hypocalcaemi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Gill Sans MT"/>
                <a:ea typeface="Arial"/>
              </a:rPr>
              <a:t>Late neonatal hypocalcaemia</a:t>
            </a:r>
            <a:endParaRPr b="0" lang="en-US" sz="28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300" spc="-1" strike="noStrike">
                <a:solidFill>
                  <a:srgbClr val="666666"/>
                </a:solidFill>
                <a:latin typeface="Gill Sans MT"/>
                <a:ea typeface="Arial"/>
              </a:rPr>
              <a:t>Associated with </a:t>
            </a:r>
            <a:r>
              <a:rPr b="0" lang="en-ZA" sz="2300" spc="-1" strike="noStrike">
                <a:solidFill>
                  <a:srgbClr val="666666"/>
                </a:solidFill>
                <a:latin typeface="Symbol"/>
                <a:ea typeface="Symbol"/>
              </a:rPr>
              <a:t></a:t>
            </a:r>
            <a:r>
              <a:rPr b="0" lang="en-ZA" sz="2300" spc="-1" strike="noStrike">
                <a:solidFill>
                  <a:srgbClr val="666666"/>
                </a:solidFill>
                <a:latin typeface="Gill Sans MT"/>
                <a:ea typeface="Arial"/>
              </a:rPr>
              <a:t> S-phosphate </a:t>
            </a:r>
            <a:endParaRPr b="0" lang="en-US" sz="23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300" spc="-1" strike="noStrike">
                <a:solidFill>
                  <a:srgbClr val="666666"/>
                </a:solidFill>
                <a:latin typeface="Gill Sans MT"/>
                <a:ea typeface="Arial"/>
              </a:rPr>
              <a:t>Decrease phosphate intake</a:t>
            </a:r>
            <a:endParaRPr b="0" lang="en-US" sz="23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300" spc="-1" strike="noStrike">
                <a:solidFill>
                  <a:srgbClr val="666666"/>
                </a:solidFill>
                <a:latin typeface="Gill Sans MT"/>
                <a:ea typeface="Arial"/>
              </a:rPr>
              <a:t>Give calcium containing phosphate binder </a:t>
            </a:r>
            <a:endParaRPr b="0" lang="en-US" sz="23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300" spc="-1" strike="noStrike">
                <a:solidFill>
                  <a:srgbClr val="666666"/>
                </a:solidFill>
                <a:latin typeface="Gill Sans MT"/>
                <a:ea typeface="Arial"/>
              </a:rPr>
              <a:t>Oral calcium (gluconate) supplementation</a:t>
            </a:r>
            <a:endParaRPr b="0" lang="en-US" sz="23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300" spc="-1" strike="noStrike">
                <a:solidFill>
                  <a:srgbClr val="666666"/>
                </a:solidFill>
                <a:latin typeface="Gill Sans MT"/>
                <a:ea typeface="Arial"/>
              </a:rPr>
              <a:t>100 mg/kg/dose 4 hourly per os </a:t>
            </a:r>
            <a:endParaRPr b="0" lang="en-US" sz="23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6666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9720" y="285480"/>
            <a:ext cx="701028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666666"/>
                </a:solidFill>
                <a:latin typeface="Bookman Old Style"/>
              </a:rPr>
              <a:t>Hypocalcaemia in older children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324000" y="1571400"/>
            <a:ext cx="882000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190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ZA" sz="2400" spc="-1" strike="noStrike">
                <a:solidFill>
                  <a:srgbClr val="000000"/>
                </a:solidFill>
                <a:latin typeface="Gill Sans MT"/>
                <a:ea typeface="Arial"/>
              </a:rPr>
              <a:t>Same dose IV as for neonat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190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ZA" sz="2400" spc="-1" strike="noStrike">
                <a:solidFill>
                  <a:srgbClr val="000000"/>
                </a:solidFill>
                <a:latin typeface="Gill Sans MT"/>
                <a:ea typeface="Arial"/>
              </a:rPr>
              <a:t>More often require continuous infus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190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ZA" sz="2400" spc="-1" strike="noStrike">
                <a:solidFill>
                  <a:srgbClr val="000000"/>
                </a:solidFill>
                <a:latin typeface="Gill Sans MT"/>
                <a:ea typeface="Arial"/>
              </a:rPr>
              <a:t>Oral supplementation 50 mg/kg/24 hr elemental C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190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666666"/>
                </a:solidFill>
                <a:latin typeface="Gill Sans MT"/>
                <a:ea typeface="Arial"/>
              </a:rPr>
              <a:t> </a:t>
            </a:r>
            <a:r>
              <a:rPr b="0" lang="en-ZA" sz="2200" spc="-1" strike="noStrike">
                <a:solidFill>
                  <a:srgbClr val="666666"/>
                </a:solidFill>
                <a:latin typeface="Gill Sans MT"/>
                <a:ea typeface="Arial"/>
              </a:rPr>
              <a:t>Ca binds with phosphate in gut </a:t>
            </a:r>
            <a:r>
              <a:rPr b="0" lang="en-ZA" sz="2200" spc="-1" strike="noStrike">
                <a:solidFill>
                  <a:srgbClr val="666666"/>
                </a:solidFill>
                <a:latin typeface="Symbol"/>
                <a:ea typeface="Symbol"/>
              </a:rPr>
              <a:t></a:t>
            </a:r>
            <a:r>
              <a:rPr b="0" lang="en-ZA" sz="2200" spc="-1" strike="noStrike">
                <a:solidFill>
                  <a:srgbClr val="666666"/>
                </a:solidFill>
                <a:latin typeface="Gill Sans MT"/>
                <a:ea typeface="Arial"/>
              </a:rPr>
              <a:t> </a:t>
            </a:r>
            <a:r>
              <a:rPr b="0" lang="en-ZA" sz="2200" spc="-1" strike="noStrike">
                <a:solidFill>
                  <a:srgbClr val="666666"/>
                </a:solidFill>
                <a:latin typeface="Symbol"/>
                <a:ea typeface="Symbol"/>
              </a:rPr>
              <a:t></a:t>
            </a:r>
            <a:r>
              <a:rPr b="0" lang="en-ZA" sz="2200" spc="-1" strike="noStrike">
                <a:solidFill>
                  <a:srgbClr val="666666"/>
                </a:solidFill>
                <a:latin typeface="Gill Sans MT"/>
                <a:ea typeface="Arial"/>
              </a:rPr>
              <a:t> Ca absorption </a:t>
            </a:r>
            <a:endParaRPr b="0" lang="en-US" sz="22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190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666666"/>
                </a:solidFill>
                <a:latin typeface="Gill Sans MT"/>
                <a:ea typeface="Arial"/>
              </a:rPr>
              <a:t> </a:t>
            </a:r>
            <a:r>
              <a:rPr b="0" lang="en-ZA" sz="2200" spc="-1" strike="noStrike">
                <a:solidFill>
                  <a:srgbClr val="666666"/>
                </a:solidFill>
                <a:latin typeface="Gill Sans MT"/>
                <a:ea typeface="Arial"/>
              </a:rPr>
              <a:t>Advantage in conditions with </a:t>
            </a:r>
            <a:r>
              <a:rPr b="0" lang="en-ZA" sz="2200" spc="-1" strike="noStrike">
                <a:solidFill>
                  <a:srgbClr val="666666"/>
                </a:solidFill>
                <a:latin typeface="Symbol"/>
                <a:ea typeface="Symbol"/>
              </a:rPr>
              <a:t></a:t>
            </a:r>
            <a:r>
              <a:rPr b="0" lang="en-ZA" sz="2200" spc="-1" strike="noStrike">
                <a:solidFill>
                  <a:srgbClr val="666666"/>
                </a:solidFill>
                <a:latin typeface="Gill Sans MT"/>
                <a:ea typeface="Arial"/>
              </a:rPr>
              <a:t> s-phosphate</a:t>
            </a:r>
            <a:r>
              <a:rPr b="0" lang="en-ZA" sz="2300" spc="-1" strike="noStrike">
                <a:solidFill>
                  <a:srgbClr val="666666"/>
                </a:solidFill>
                <a:latin typeface="Gill Sans MT"/>
                <a:ea typeface="Arial"/>
              </a:rPr>
              <a:t> </a:t>
            </a:r>
            <a:endParaRPr b="0" lang="en-US" sz="2300" spc="-1" strike="noStrike">
              <a:solidFill>
                <a:srgbClr val="666666"/>
              </a:solidFill>
              <a:latin typeface="Gill Sans MT"/>
            </a:endParaRPr>
          </a:p>
          <a:p>
            <a:pPr lvl="2" marL="119232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Gill Sans MT"/>
                <a:ea typeface="Arial"/>
              </a:rPr>
              <a:t>Renal failur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9232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Gill Sans MT"/>
                <a:ea typeface="Arial"/>
              </a:rPr>
              <a:t>Hypoparathyroidism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9232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Gill Sans MT"/>
                <a:ea typeface="Arial"/>
              </a:rPr>
              <a:t>Tumor lysi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190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ZA" sz="2400" spc="-1" strike="noStrike">
                <a:solidFill>
                  <a:srgbClr val="000000"/>
                </a:solidFill>
                <a:latin typeface="Gill Sans MT"/>
                <a:ea typeface="Arial"/>
              </a:rPr>
              <a:t>Most need Vit D supplement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19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5072040" cy="87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Bookman Old Style"/>
                <a:ea typeface="Times New Roman"/>
              </a:rPr>
              <a:t>Calcium homeostasis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pic>
        <p:nvPicPr>
          <p:cNvPr id="357" name="Content Placeholder 3" descr="calciumgroot1.jpg"/>
          <p:cNvPicPr/>
          <p:nvPr/>
        </p:nvPicPr>
        <p:blipFill>
          <a:blip r:embed="rId1"/>
          <a:stretch/>
        </p:blipFill>
        <p:spPr>
          <a:xfrm>
            <a:off x="357120" y="785880"/>
            <a:ext cx="8429760" cy="5500800"/>
          </a:xfrm>
          <a:prstGeom prst="rect">
            <a:avLst/>
          </a:prstGeom>
          <a:ln w="0">
            <a:noFill/>
          </a:ln>
        </p:spPr>
      </p:pic>
      <p:sp>
        <p:nvSpPr>
          <p:cNvPr id="358" name="TextBox 3"/>
          <p:cNvSpPr/>
          <p:nvPr/>
        </p:nvSpPr>
        <p:spPr>
          <a:xfrm>
            <a:off x="714240" y="6334200"/>
            <a:ext cx="842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 Sans MT"/>
              </a:rPr>
              <a:t>Regulation of parathyroid function by calcimimetic compou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 Sans MT"/>
              </a:rPr>
              <a:t>E. Nemeth,  </a:t>
            </a:r>
            <a:r>
              <a:rPr b="0" i="1" lang="en-US" sz="1400" spc="-1" strike="noStrike">
                <a:solidFill>
                  <a:srgbClr val="ffffff"/>
                </a:solidFill>
                <a:latin typeface="Gill Sans MT"/>
              </a:rPr>
              <a:t>http://www.ndt-educational.org/nemethslide.a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5"/>
          <p:cNvSpPr/>
          <p:nvPr/>
        </p:nvSpPr>
        <p:spPr>
          <a:xfrm>
            <a:off x="2160" y="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Content Placeholder 3" descr="calcium%20regulation.jpg"/>
          <p:cNvPicPr/>
          <p:nvPr/>
        </p:nvPicPr>
        <p:blipFill>
          <a:blip r:embed="rId1"/>
          <a:stretch/>
        </p:blipFill>
        <p:spPr>
          <a:xfrm>
            <a:off x="428760" y="71280"/>
            <a:ext cx="8286480" cy="6215400"/>
          </a:xfrm>
          <a:prstGeom prst="rect">
            <a:avLst/>
          </a:prstGeom>
          <a:ln w="0">
            <a:noFill/>
          </a:ln>
        </p:spPr>
      </p:pic>
      <p:sp>
        <p:nvSpPr>
          <p:cNvPr id="361" name="TextBox 2"/>
          <p:cNvSpPr/>
          <p:nvPr/>
        </p:nvSpPr>
        <p:spPr>
          <a:xfrm>
            <a:off x="6072120" y="6429240"/>
            <a:ext cx="30718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5"/>
          <p:cNvSpPr/>
          <p:nvPr/>
        </p:nvSpPr>
        <p:spPr>
          <a:xfrm>
            <a:off x="714240" y="6334200"/>
            <a:ext cx="757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 Sans MT"/>
              </a:rPr>
              <a:t>Introduction to Anatomy and Physiology, </a:t>
            </a:r>
            <a:r>
              <a:rPr b="0" i="1" lang="en-US" sz="1400" spc="-1" strike="noStrike">
                <a:solidFill>
                  <a:srgbClr val="ffffff"/>
                </a:solidFill>
                <a:latin typeface="Gill Sans MT"/>
              </a:rPr>
              <a:t>http://ncwcbio101.wordpress.com/2008/11/23/14-introduction-to-anatomy-and-physiology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Bookman Old Style"/>
                <a:ea typeface="Times New Roman"/>
              </a:rPr>
              <a:t>Pathophysiology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Ionized calcium is affected by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6666"/>
                </a:solidFill>
                <a:latin typeface="Gill Sans MT"/>
                <a:ea typeface="Arial"/>
              </a:rPr>
              <a:t>Albumin</a:t>
            </a:r>
            <a:endParaRPr b="0" lang="en-US" sz="23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6666"/>
                </a:solidFill>
                <a:latin typeface="Gill Sans MT"/>
                <a:ea typeface="Arial"/>
              </a:rPr>
              <a:t>Blood pH</a:t>
            </a:r>
            <a:endParaRPr b="0" lang="en-US" sz="23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6666"/>
                </a:solidFill>
                <a:latin typeface="Gill Sans MT"/>
                <a:ea typeface="Arial"/>
              </a:rPr>
              <a:t>Serum phosphate</a:t>
            </a:r>
            <a:endParaRPr b="0" lang="en-US" sz="23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6666"/>
                </a:solidFill>
                <a:latin typeface="Gill Sans MT"/>
                <a:ea typeface="Arial"/>
              </a:rPr>
              <a:t>Serum magnesium</a:t>
            </a:r>
            <a:endParaRPr b="0" lang="en-US" sz="23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6666"/>
                </a:solidFill>
                <a:latin typeface="Gill Sans MT"/>
                <a:ea typeface="Arial"/>
              </a:rPr>
              <a:t>Serum bicarbonate</a:t>
            </a:r>
            <a:endParaRPr b="0" lang="en-US" sz="23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6666"/>
                </a:solidFill>
                <a:latin typeface="Gill Sans MT"/>
                <a:ea typeface="Arial"/>
              </a:rPr>
              <a:t>Exogenous factors</a:t>
            </a:r>
            <a:endParaRPr b="0" lang="en-US" sz="2300" spc="-1" strike="noStrike">
              <a:solidFill>
                <a:srgbClr val="666666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Arial"/>
              </a:rPr>
              <a:t>Citrate / free fatty acids (TP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Bookman Old Style"/>
                <a:ea typeface="Times New Roman"/>
              </a:rPr>
              <a:t>Why do we need it?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68360" y="1700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Calcium messenger system – regulates cell func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Activates cellular enzyme cascad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Smooth muscle and myocardial contrac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Nerve impulse conduc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Secretory activity of exocrine gland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Bookman Old Style"/>
                <a:ea typeface="Times New Roman"/>
              </a:rPr>
              <a:t>Symptoms and signs of hypocalcemia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9528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Neuromuscular irritabilit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  <a:ea typeface="Arial"/>
              </a:rPr>
              <a:t>Paresthesia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  <a:ea typeface="Arial"/>
              </a:rPr>
              <a:t>Laryngospasm / Bronchospas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  <a:ea typeface="Arial"/>
              </a:rPr>
              <a:t>Tetan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  <a:ea typeface="Arial"/>
              </a:rPr>
              <a:t>Seizur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  <a:ea typeface="Arial"/>
              </a:rPr>
              <a:t>Chvostek sig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  <a:ea typeface="Arial"/>
              </a:rPr>
              <a:t>Trousseau sig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  <a:ea typeface="Arial"/>
              </a:rPr>
              <a:t>Prolonged QTc time on EC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428760" y="1213920"/>
            <a:ext cx="8229600" cy="43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Tetany is not caused by increased excitability of the muscles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Muscle excitability is depressed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6666"/>
                </a:solidFill>
                <a:latin typeface="Gill Sans MT"/>
                <a:ea typeface="Arial"/>
              </a:rPr>
              <a:t>hypocalcemia impedes ACh release at NM junctions </a:t>
            </a:r>
            <a:endParaRPr b="0" lang="en-US" sz="2300" spc="-1" strike="noStrike">
              <a:solidFill>
                <a:srgbClr val="666666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However, the increase in neuronal excitability overrides the inhibition of muscle contraction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19:01:16Z</dcterms:created>
  <dc:creator>Nicolette du Plessis</dc:creator>
  <dc:description/>
  <dc:language>en-US</dc:language>
  <cp:lastModifiedBy>f og</cp:lastModifiedBy>
  <dcterms:modified xsi:type="dcterms:W3CDTF">2017-04-30T18:59:42Z</dcterms:modified>
  <cp:revision>69</cp:revision>
  <dc:subject/>
  <dc:title>Hypocalcemia</dc:title>
</cp:coreProperties>
</file>